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699D-33A5-473A-A521-EC40388CF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ia Demonstrate how to use it. (30 m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(15 m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5 m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sh/document 20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C48-C05F-4AF7-874A-5E9A9D1C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3EE-8331-4ED8-8794-FBB26137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179-7DD5-41C4-8F1D-C1C45AF4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061-2F2C-46EF-9082-54967979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5F3A-2B69-4633-A696-6536BEB0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E6C7-52A5-4CA2-99ED-E399E816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96CF-3CAC-4CCB-81B6-2CDFC0A0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1552-0273-44EE-9461-736083E6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DFBD-EED1-4B02-AF71-0CE0053C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E070-09AA-491E-86E2-8B70557A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737B-4055-4A3E-9DE5-C4E84858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09F-2093-403E-9DE3-B32BE57C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4BA9-8B0A-45F6-918B-B2AA6E90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7A7E-6945-4722-BDE2-8AF8ADE1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18EC-3FAE-4F68-AAA6-52A1C0E2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FB54-CAF8-4C9C-9D13-CB2F0A35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7B07-CC13-451F-96FA-E2ADC0C1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5DA-E9CB-4535-87F5-85B25541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69C-B487-4B56-88C6-6A3C4A9D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0F6-9C73-4782-9388-AA189A8E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072C-0850-4B24-A5B7-53F892E7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461-5B7E-4491-9967-4C3AF83A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616-1F98-483A-92FB-8585B899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161-8216-4566-A4B1-5989CE72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6AA5-C3C9-40FC-98EB-3840565674A8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774A-AEDB-43FF-90B6-FAA846CC0B35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dugains.ca/newsite/math/toolsandstrategies.htm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859280" cy="3984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3434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Proportional Reasoning: </a:t>
            </a: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Focused on Proportional Thinking</a:t>
            </a: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  </a:t>
            </a: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Day 2</a:t>
            </a:r>
            <a:br>
              <a:rPr sz="48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August 17, 2010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Paul Alves, Sonia Ellison &amp; Trish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ooking at Student Wor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rategies or solutions would you expect to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he student done to demonstrate their achievement of the learning go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information do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feedback would you provide the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3 Part Less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447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rt the pieces of the TIPS lesson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ds On, Action, and Conso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20988000">
            <a:off x="1142640" y="4952520"/>
            <a:ext cx="4552920" cy="5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725400">
            <a:off x="3581280" y="3733920"/>
            <a:ext cx="4648320" cy="7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38480" y="5334120"/>
            <a:ext cx="4629240" cy="11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990720" y="4114800"/>
            <a:ext cx="4362480" cy="46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lastic Meter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981080"/>
            <a:ext cx="75438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atio Tabl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920" y="2209680"/>
          <a:ext cx="8305560" cy="2133720"/>
        </p:xfrm>
        <a:graphic>
          <a:graphicData uri="http://schemas.openxmlformats.org/drawingml/2006/table">
            <a:tbl>
              <a:tblPr/>
              <a:tblGrid>
                <a:gridCol w="125244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djusting the Less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your lesson goal and its connection to a Big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the Mind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ACTION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consol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31626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ssessment of Learn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at the consolidation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it be appropriate as an assessment of learning opportunity? If not, how would you adjus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curriculum expectation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he expectation to a Big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Learning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Consolidation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Edit using Success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3563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914400"/>
            <a:ext cx="8077320" cy="5638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9144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37339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3276720"/>
            <a:ext cx="2590920" cy="9144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990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809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990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s/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3809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3429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tional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3244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229600" cy="3224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d Mad Worl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825720" cy="4572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48320" y="1752480"/>
            <a:ext cx="4038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a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uesday’s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lesson goals based on a Big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onsolidating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learning/discussion regarding propor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ing a 3 part lesson to align with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opportunities for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4RM9   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77960" y="1614600"/>
            <a:ext cx="75898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ticipation Guide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447920"/>
          <a:ext cx="8229240" cy="4723920"/>
        </p:xfrm>
        <a:graphic>
          <a:graphicData uri="http://schemas.openxmlformats.org/drawingml/2006/table">
            <a:tbl>
              <a:tblPr/>
              <a:tblGrid>
                <a:gridCol w="1136160"/>
                <a:gridCol w="1138680"/>
                <a:gridCol w="3846600"/>
                <a:gridCol w="1052640"/>
                <a:gridCol w="1055160"/>
              </a:tblGrid>
              <a:tr h="412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ag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ag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you double the length of a square, then the perimeter also doubl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you double the length of a square, then the area also doubl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you double the length of a square, then the length of the diagonal also doubl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you double the sides of a cube, then the volume also doubl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rowing Dilemma Investig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114800"/>
            <a:ext cx="83844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3048120"/>
            <a:ext cx="8380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971800"/>
            <a:ext cx="838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038480"/>
            <a:ext cx="838440" cy="838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2286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943600" y="3429000"/>
            <a:ext cx="1143000" cy="1219320"/>
            <a:chOff x="5943600" y="3429000"/>
            <a:chExt cx="1143000" cy="1219320"/>
          </a:xfrm>
        </p:grpSpPr>
        <p:sp>
          <p:nvSpPr>
            <p:cNvPr id="110" name=""/>
            <p:cNvSpPr/>
            <p:nvPr/>
          </p:nvSpPr>
          <p:spPr>
            <a:xfrm>
              <a:off x="5943600" y="35053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24480" y="3429000"/>
              <a:ext cx="381240" cy="30492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520" y="403848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477120" y="2438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238880" y="3200400"/>
            <a:ext cx="1143000" cy="1219320"/>
            <a:chOff x="7238880" y="3200400"/>
            <a:chExt cx="1143000" cy="1219320"/>
          </a:xfrm>
        </p:grpSpPr>
        <p:sp>
          <p:nvSpPr>
            <p:cNvPr id="115" name=""/>
            <p:cNvSpPr/>
            <p:nvPr/>
          </p:nvSpPr>
          <p:spPr>
            <a:xfrm>
              <a:off x="7238880" y="32767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9760" y="3200400"/>
              <a:ext cx="381240" cy="30492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43800" y="380988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200400" y="5486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racteris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e we looking f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curriculum specif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assess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usually, and definitely for CAMPPP, rooted in conceptual understand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Creating Lesson Goals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81680" cy="3463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581280" y="1752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djust as nee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819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4038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315200" cy="192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33920" y="56386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Steele</cp:lastModifiedBy>
  <dcterms:modified xsi:type="dcterms:W3CDTF">2010-08-17T02:11:47Z</dcterms:modified>
  <cp:revision>162</cp:revision>
  <dc:subject/>
  <dc:title>Slide 1</dc:title>
</cp:coreProperties>
</file>